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F06B1-8E47-41C4-AD72-BAF66B11BD2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D67A8-CCE1-484C-8BD6-DA400C9AD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2E04D-639B-4F0D-B4F0-CE94A4A3A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703FC-C453-48D8-8816-B9B322F19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94893-FD68-4885-BA6F-481E688FA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05F1F-269D-4333-ABFB-634BF659C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857680" y="514440"/>
            <a:ext cx="3429000" cy="2571840"/>
          </a:xfrm>
          <a:prstGeom prst="rect">
            <a:avLst/>
          </a:prstGeom>
          <a:ln w="0">
            <a:noFill/>
          </a:ln>
        </p:spPr>
      </p:sp>
      <p:sp>
        <p:nvSpPr>
          <p:cNvPr id="61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3C436-BFEF-4F67-876F-999B67A1F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26642-E37F-4509-A378-5F22B98A3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857680" y="514440"/>
            <a:ext cx="3429000" cy="2571840"/>
          </a:xfrm>
          <a:prstGeom prst="rect">
            <a:avLst/>
          </a:prstGeom>
          <a:ln w="0">
            <a:noFill/>
          </a:ln>
        </p:spPr>
      </p:sp>
      <p:sp>
        <p:nvSpPr>
          <p:cNvPr id="5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0C1D5-4227-4D25-9203-F5648B0D0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857680" y="514440"/>
            <a:ext cx="3429000" cy="2571840"/>
          </a:xfrm>
          <a:prstGeom prst="rect">
            <a:avLst/>
          </a:prstGeom>
          <a:ln w="0">
            <a:noFill/>
          </a:ln>
        </p:spPr>
      </p:sp>
      <p:sp>
        <p:nvSpPr>
          <p:cNvPr id="6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5FD76-27F3-46C1-BF1A-BE5EF62DF0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656D2-33EE-4B5C-A9BE-9E03076F5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D78E5-0FFC-4043-BE93-C3CEAA09C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0390E-D071-44F5-9538-727DF31D39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0F78B-024F-4D3F-ACB8-9854CDDFB1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7DE7D7-2633-4DBA-82E3-7056D0BE5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D12D0-D751-4E98-AC00-D21324777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5CBB85-7747-4866-9B47-0E7B2C8D5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8E603-6C67-47DE-A8CB-75F533ECF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20DDD-5459-45A1-A46E-1D4D0E729A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0F932B-D411-4B8F-866D-EDFD4C94E2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EF763-91CD-442A-84CF-8F961598E9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164563-8752-40FF-9398-CAD715A7F6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E0644-6164-4900-87F1-69624B190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448F65-41D4-47E9-8C3C-E00C027C35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F6227B-A1FC-4D1B-AE38-2BB283718A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1C26B-9ECF-492B-AD03-7F3B83FE91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527484-A58B-4ABC-9BB0-9BBB871349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AE2A2C-A06A-4425-836F-79C1EACC6A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C96A69-813C-4CE5-B841-4BE802463C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DDC1C-FA36-489A-82E9-8DD2B9F811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0BA1E5-369C-466B-8A27-7FAB6B44C9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6B5A69-9B39-4414-A0B0-365788019F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80660F-2FA7-4F76-BA3A-3BEF282858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94216-250F-476E-97F0-3AF4D40FE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4F58F0-9494-48FE-AD7A-EE4A2522B2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E0A716-5FC4-4391-9D89-CA7D432479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172C65-8E6E-4CB9-AF69-EFE509BBDC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D50616-EB47-4C1C-8271-974D8C1D15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E1C8F4-361F-4822-B7E4-52C2DB53B0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A97A7A-9CFB-44C9-9F03-3CEED7F011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C48242-F0E2-42F6-9F30-3BCD8FD0E4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CF9FD1-3EAA-44FD-8E35-A6DE19C03A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98AA34-31A7-4190-979C-2B65618E57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7D9CCE-4491-40D2-AFBC-C884889767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7B08D-F5AB-403E-9B24-506ACAAC0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578F53-0914-4AD2-898C-53128E6464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2D896F-9A9C-4592-A15C-2D8049CE47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B04B6B-9070-47B3-8D09-D9EE1FE0DE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EB6648-CB96-4F66-B293-CBE713E71C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DFCD84-FA5E-4FB6-93A2-E8D2D5CFA8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C86C1E-4957-4175-8BAF-AD855210BE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2D9F25-885D-4203-A3F3-0D014154BD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B22E68-B817-4DA7-BECC-DC3D9D8BC0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78DA9D-7276-42C1-9697-DA00A50611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9C31C8-7172-4490-89FD-5038E8A98C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E685B-CF64-4DF8-971A-26E0B9580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65526B-3CED-41F0-829C-BA97DC202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CD979B-D9C0-4F0E-9FA3-F7B55F62E3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60C68E-87D9-47BB-9B15-4B48AD26E3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A95FCED-1E86-4AE5-9F8B-A94723041A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F35528-4E70-4B8D-9B1C-A45F71CF28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E2B21-C9D9-47F8-A83B-490418A2A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43F66-DB08-472C-95D0-7F5307385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619E7-E225-4C10-BBBF-6EA0D9B86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F12E0-3FC0-4B2B-83C1-13FE14528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1E667-0FB2-4D9B-936B-EC7F521F8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E099-B79C-4DED-933D-6CF07AB8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FD65-D12C-471A-BBD2-7A8377B7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3F623-ACAD-45CD-951A-7DCECBB38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4AD32-338D-4D62-A9B2-B50429D93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68AF6-4B74-41D7-8951-94D2BFE52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CD4E5-B250-4DA8-B22B-91F33823D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61B405-1BE3-4BF8-AA3E-5A1093A29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0C243-4BD4-4A4E-A401-10392564E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29257-ABEB-4DBF-9387-74DE02800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4FD0B-4F25-4169-BD4D-61978E366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F2878-D8DC-4B16-8FB6-EB2C36834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22E9-FC15-45A2-AD5A-1A427B176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E20C1-8BC2-4DD2-8DA0-E5AC9F41B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A22BE-5B2B-4477-AAC0-461220DA9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6056E-C0EA-4360-8EE2-25B3E0EB1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E4DF5-1987-4CAB-9464-A28341D0E3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EFAC1B-55ED-4395-815B-8EFE9932E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48F34C-4FE8-45E8-BCA9-2670EC8506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63AED4-01AC-47B8-8178-111BD34D67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BB246-3203-4E67-95BA-04A960FCF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B7745-0A2F-43EE-A66A-F654150DD6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EDC63-7AEC-47F1-BFE3-8D473AC01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5087-12B7-4ED1-874D-8C9441ADF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228E5A-377E-4AD5-BED1-4F4B54BE5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F508C-2429-4A7C-A116-223D54A67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9FAEA-D47C-4970-B953-CAAA30022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4E6D7-30BB-41D5-853E-2FC78762C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D1F59-335B-4312-AF36-A2BFC5D8A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96299-D0BB-4647-88B6-87505E069E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78F0F-136F-4742-A2CE-DCCB57E63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434F04-2B7A-492E-801F-13160238C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9D100B-7EE7-4542-9ED4-979EF6963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3F892F-7AAD-4937-A189-DDCA83758A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C326C-9EFF-4E57-998A-0E5FDEC0E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52EED-3A8A-49FD-A6FE-DD00AE03E1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612D2-1EFF-4A2A-AD6D-12828E454A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63ECC-ED8C-4CC9-A760-7ED79F2DE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41E93-5EDB-4D60-90F3-0FE131AB9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0CBB73-82B0-460D-82EF-63A0F436C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3B350-E68E-4C5D-9919-EE7E58EC7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F5C6C-CF81-4232-8C62-3AF738C2C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CA432-D2BF-4C2C-B499-187B9EC2F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C29EF-078A-4EA1-A23C-891F2AAF1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963C2B-632C-4358-89A9-73C014B803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A1CA-464B-408D-A040-D9C51701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73A988-5ACB-4BC3-BAED-8B22FC3920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F91CB2-7B9F-4893-87BC-B71AB56F31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3700B-AB08-4BDE-84EE-F3D0BE5E71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EF585-3835-4F06-A8F3-DD325482E7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D4FB7-404B-466A-B4E6-96165C8DA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40B80-44F1-4714-ABED-1DCB5A2D1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2B0E22-40EE-4ED3-8C3C-1A9E1BF70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F33C3-045F-4EE1-BBA4-7FCDC5850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A29C5-65F4-4903-9ACE-C2C9B9B43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7C064-78B5-4B3C-A2B1-1AC8B1739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8D145-25D0-435B-BFE4-B7FD37A0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69506-484A-4D6C-9992-E42F4D38D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49DAEE-4CEF-461E-83C7-A4F57A5490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B1BDF7-E3E3-4DA9-97A6-121A46C4F8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C7594F-DA25-4693-9CCE-4D1E6A7E82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4C11FD-078F-4017-8348-23848C2E9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E2C4F-4FD9-4F8C-9F48-99A83843D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94B31-A5BB-4AF7-9B70-054F9E074B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17476-ED09-4B7D-9415-FB04ED7E2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C9D828-A6C2-456A-8907-3DBE4D834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AB100-11D8-46E3-824A-C55F7C4D5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167F-11DE-4D78-B03A-2E2DBF240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97385-5C04-41C3-9A6F-B211DE795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F9AD7-CC3C-49F5-B129-7C87A1AE7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56031-2720-4B82-A8CF-7B724C6B7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D299EC-A281-4DAF-9779-3A1AE75D53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7E8051-352A-4A53-88D8-1B3AE05822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A1925C-C11C-4B59-9D4B-8D664C09A7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8201C7-51BD-4D05-A097-9C1B294AA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18FDE-81AE-40BC-A6C0-85DE0128A3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EEA165-8FD4-481F-AB77-79632F0EFC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5B9A4-F208-4531-9753-346DDEC388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DA9A-CF49-4915-B0CA-14FF0BA3E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54C150-A35C-49B9-9A3D-440254592A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F5026D-2311-400F-925D-3D6B5031A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215DB-0751-494D-BB47-05AD890F3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38BC1-588D-46A3-B67F-DEDF3B132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53A44-B44E-4EC0-812C-650C630FB0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79AFE1-A4CD-4BA7-AAEA-395179763A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7D377A-0336-4741-BF7D-2E3811E3B9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576810-8722-4BD7-92DF-558B4180A4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A26F03-3E2B-4549-BD20-C83832B37B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0F2BE-D528-405A-A099-BE2E2C15AE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01298-61AC-4316-A180-7C6B596E5EC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9C247-C9E1-44EA-99BD-07C3B9A3E7F0}" type="slidenum">
              <a:rPr b="0" lang="en-US" sz="1200" spc="-1" strike="noStrike">
                <a:solidFill>
                  <a:srgbClr val="898989"/>
                </a:solidFill>
                <a:latin typeface="Calibri"/>
              </a:rPr>
              <a:t>&lt;number&gt;</a:t>
            </a:fld>
            <a:fld id="{8F3B18E6-5445-4BD1-B8D5-B7AFE2884B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21416-D0BE-4981-A1C9-5B02C9CF5B7F}"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0AF0C-07EB-4E80-8D58-7A83881793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A484F-CDE3-4D6E-82C2-028AF9B1B436}"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41101-B2F2-4516-A059-B3B5BA9820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27C2A-036F-4BEA-B3CE-EB7B7C39D098}"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2903E-F3F1-4B20-97E3-BE67619216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AC06E-98BE-4C0E-A5DF-C37364E1F54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0C9F3-63D9-480D-9E8C-EDD44FE937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316C9-9971-4DED-804F-85650C4F7FD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1588F-8637-43C5-B3BE-D8B8C7E036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69BCE-E746-4730-85DE-564A21A0E92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41F85-6A9A-4C8D-9B12-33F24E44A5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173ED-76FD-4A08-B894-F128919AF33B}"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57DA1-14AD-42A2-B080-C97B6C981F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3C577-8F72-4A28-B97F-20232545569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41951-5C42-42B6-BF71-FFE96DDE99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54E1A-3C35-47E6-B058-8434A0EF6D2A}"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FA00C-ED69-455A-99F7-46F4BEE20F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30DCA-BF61-4C7E-A475-4E37747F6C1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15808-C58A-42EE-BEBC-9D7D478C45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39426-505F-4681-B296-0FB74187EA8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EC580-5956-45E2-883D-A8B303892E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4.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14E60-911A-476C-90FB-30D7AE0127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594B9-5EC5-4EDB-B0E6-02CB0D090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8B865-FE89-4978-966E-93A233DE43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C36A6-E0ED-456A-9F3B-FE765F97E8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30AA4-6DD4-4D9F-B6BE-A913AC5932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226C6-1124-4B3F-B2D4-5C8F6F4A9E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4484DF-A887-4152-A36C-2908F3BF3C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50EF0-F24E-42F4-B3B8-56A4632E5F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39D63-F0DE-4174-88E6-4A5761F0D5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FFA39-3B6E-4696-853E-A643DF27B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8DA54-E188-491C-A53E-00C926137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839DB-356E-4461-85DF-E3646FC204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CEC0D-004F-43BE-B8A0-E21307A4B1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AE331-4D7D-4A92-AF8A-1EC30F7572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5F3CD-8225-4F11-B5AD-4056ECCD84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75ED0-3BD2-4824-AA6F-EB6CFFB491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138560"/>
        </p:xfrm>
        <a:graphic>
          <a:graphicData uri="http://schemas.openxmlformats.org/drawingml/2006/table">
            <a:tbl>
              <a:tblPr/>
              <a:tblGrid>
                <a:gridCol w="382680"/>
                <a:gridCol w="666720"/>
                <a:gridCol w="4228920"/>
                <a:gridCol w="585720"/>
                <a:gridCol w="1097280"/>
              </a:tblGrid>
              <a:tr h="701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1B168-0E54-4819-9C6C-2C8CEDAF7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306F6-DE4B-466E-8B06-9DF0CD5BE9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050F6-3BCD-4E5E-90CC-624F882F91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357B3-EE83-40D2-A27B-92FAC69F5F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9B7A4-08D0-467E-967B-7B08A4437C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22T12:59:21Z</dcterms:modified>
  <cp:revision>55</cp:revision>
  <dc:subject/>
  <dc:title>Titulní strana – Titulek</dc:title>
</cp:coreProperties>
</file>